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455-FFC5-45F4-9669-560165BC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162-E8E5-4A6D-AB20-0C657159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A5D-8FD3-4941-9A67-4AFC5FCE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BA1-1EAA-41A0-9101-F82D382C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5DC4-CBED-4BFF-B9FF-DC5C8CF9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B8D0-36BE-4D14-BAEE-33CE7F79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2271-4975-4E6E-A4B5-75931703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094B-04EA-4DEA-93BE-385E5B35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F198-89B2-4F70-A55C-40B2E759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1BFA-3E7C-418A-B925-BCB5EB75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B392-BD8F-4780-984C-2F553286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527-F8AD-4508-9275-D980F0FF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5821-86DE-4769-999F-1EBF711A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A350-97E2-44F4-A6C7-176096C6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96F8-FB88-468F-B9E4-3FDD9F43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9FF3-7E96-4600-999D-23B16CC0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3402-9E3A-42C6-A891-D2131968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86C-D3AA-4575-B588-96AD8CE5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7A1-D8B1-4A21-B05E-3D207E69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D71-9ED1-4794-AFC9-641D80AD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D95-56A9-42C8-881F-E3C7A8EF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C06-45BC-4E9E-A414-588E30AB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4C03-8E25-4071-AFE7-21CF3269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8C1-37A4-449D-9C36-F442C624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63B2-C9CA-4ADD-B6DD-58DC28B0DF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A94F-FE9F-4071-B44F-C18CDB3EC5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cclaimstockphotography.com/_gallery/_pages/0020-0310-2419-2803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1347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Different Landform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Jena Carro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9" descr="MPj04331320000[1]"/>
          <p:cNvPicPr/>
          <p:nvPr/>
        </p:nvPicPr>
        <p:blipFill>
          <a:blip r:embed="rId1"/>
          <a:stretch/>
        </p:blipFill>
        <p:spPr>
          <a:xfrm>
            <a:off x="3200400" y="34290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omic Sans MS"/>
              </a:rPr>
              <a:t>coast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403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 coast is the area where the ocean touches the land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9" descr="MPj04009440000[1]"/>
          <p:cNvPicPr/>
          <p:nvPr/>
        </p:nvPicPr>
        <p:blipFill>
          <a:blip r:embed="rId1"/>
          <a:stretch/>
        </p:blipFill>
        <p:spPr>
          <a:xfrm>
            <a:off x="380880" y="2590920"/>
            <a:ext cx="4427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omic Sans MS"/>
              </a:rPr>
              <a:t>desert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3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 desert is a hot dry place with little or no rai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9" descr="MPj04365970000[1]"/>
          <p:cNvPicPr/>
          <p:nvPr/>
        </p:nvPicPr>
        <p:blipFill>
          <a:blip r:embed="rId1"/>
          <a:stretch/>
        </p:blipFill>
        <p:spPr>
          <a:xfrm>
            <a:off x="457200" y="2362320"/>
            <a:ext cx="441972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omic Sans MS"/>
              </a:rPr>
              <a:t>river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19360" y="213336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river is a long flowing body of wate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21" descr="MPj04034360000[1]"/>
          <p:cNvPicPr/>
          <p:nvPr/>
        </p:nvPicPr>
        <p:blipFill>
          <a:blip r:embed="rId1"/>
          <a:stretch/>
        </p:blipFill>
        <p:spPr>
          <a:xfrm>
            <a:off x="609480" y="2362320"/>
            <a:ext cx="39020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Now let’s review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3139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A _________ is water with land all around it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0199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sla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ak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19920" y="23623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MPj04340860000[1]"/>
          <p:cNvPicPr/>
          <p:nvPr/>
        </p:nvPicPr>
        <p:blipFill>
          <a:blip r:embed="rId1"/>
          <a:stretch/>
        </p:blipFill>
        <p:spPr>
          <a:xfrm>
            <a:off x="5181480" y="3124080"/>
            <a:ext cx="3581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What is the largest body of water on Earth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ak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i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477120" y="289548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6" descr="MPj04331880000[1]"/>
          <p:cNvPicPr/>
          <p:nvPr/>
        </p:nvPicPr>
        <p:blipFill>
          <a:blip r:embed="rId1"/>
          <a:stretch/>
        </p:blipFill>
        <p:spPr>
          <a:xfrm>
            <a:off x="5257800" y="3886200"/>
            <a:ext cx="37339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A _______ is higher than the land around it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sla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ounta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Valle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5943600" y="30481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" descr="MPj04340640000[1]"/>
          <p:cNvPicPr/>
          <p:nvPr/>
        </p:nvPicPr>
        <p:blipFill>
          <a:blip r:embed="rId1"/>
          <a:stretch/>
        </p:blipFill>
        <p:spPr>
          <a:xfrm>
            <a:off x="4876920" y="388620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What is a flowing body of water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atea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ak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i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6172200" y="28195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MPj04034360000[1]"/>
          <p:cNvPicPr/>
          <p:nvPr/>
        </p:nvPicPr>
        <p:blipFill>
          <a:blip r:embed="rId1"/>
          <a:stretch/>
        </p:blipFill>
        <p:spPr>
          <a:xfrm>
            <a:off x="5029200" y="3581280"/>
            <a:ext cx="39020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I am land and have water all around me.  What am I?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sla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a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172200" y="32767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4952880" y="4038480"/>
            <a:ext cx="40528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Congratulations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Picture 8" descr="MCj04315590000[1]"/>
          <p:cNvPicPr/>
          <p:nvPr/>
        </p:nvPicPr>
        <p:blipFill>
          <a:blip r:embed="rId1"/>
          <a:stretch/>
        </p:blipFill>
        <p:spPr>
          <a:xfrm>
            <a:off x="2438280" y="190512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cc"/>
                </a:solidFill>
                <a:uFillTx/>
                <a:latin typeface="Comic Sans MS"/>
              </a:rPr>
              <a:t>Types of Landfor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.  Mountain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6.  Lak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2.  Valle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7.  Oce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3.  Plain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8.  Co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4.  Platea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9.  Deser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5.  Island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  10.  Ri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MCj04247580000[1]"/>
          <p:cNvPicPr/>
          <p:nvPr/>
        </p:nvPicPr>
        <p:blipFill>
          <a:blip r:embed="rId1"/>
          <a:stretch/>
        </p:blipFill>
        <p:spPr>
          <a:xfrm>
            <a:off x="7467480" y="4876920"/>
            <a:ext cx="1498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Images are from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914400" y="16002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s 1, 2, 3, 4, 5, 8, 9, 10, 11, 12, 14, 15, 16, 17, 19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crosoft Office Clip A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6, 7, 13, 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Print Shop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Comic Sans MS"/>
              </a:rPr>
              <a:t>mountai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mountain is a place on Earth’s surface that is much higher than the land around i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Group 14"/>
          <p:cNvGrpSpPr/>
          <p:nvPr/>
        </p:nvGrpSpPr>
        <p:grpSpPr>
          <a:xfrm>
            <a:off x="1154160" y="2278080"/>
            <a:ext cx="6835680" cy="2301840"/>
            <a:chOff x="1154160" y="2278080"/>
            <a:chExt cx="6835680" cy="2301840"/>
          </a:xfrm>
        </p:grpSpPr>
        <p:sp>
          <p:nvSpPr>
            <p:cNvPr id="97" name="Rectangle 9"/>
            <p:cNvSpPr/>
            <p:nvPr/>
          </p:nvSpPr>
          <p:spPr>
            <a:xfrm>
              <a:off x="1154160" y="2278080"/>
              <a:ext cx="6835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" name="Group 13"/>
            <p:cNvGrpSpPr/>
            <p:nvPr/>
          </p:nvGrpSpPr>
          <p:grpSpPr>
            <a:xfrm>
              <a:off x="1154160" y="2278080"/>
              <a:ext cx="3257640" cy="2301840"/>
              <a:chOff x="1154160" y="2278080"/>
              <a:chExt cx="3257640" cy="2301840"/>
            </a:xfrm>
          </p:grpSpPr>
          <p:sp>
            <p:nvSpPr>
              <p:cNvPr id="99" name="Rectangle 10"/>
              <p:cNvSpPr/>
              <p:nvPr/>
            </p:nvSpPr>
            <p:spPr>
              <a:xfrm>
                <a:off x="1154160" y="2278080"/>
                <a:ext cx="32576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1"/>
              <p:cNvSpPr/>
              <p:nvPr/>
            </p:nvSpPr>
            <p:spPr>
              <a:xfrm>
                <a:off x="1154160" y="2278080"/>
                <a:ext cx="3257640" cy="23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121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101" name="Picture 18" descr="MPj04340640000[1]"/>
          <p:cNvPicPr/>
          <p:nvPr/>
        </p:nvPicPr>
        <p:blipFill>
          <a:blip r:embed="rId1"/>
          <a:stretch/>
        </p:blipFill>
        <p:spPr>
          <a:xfrm>
            <a:off x="304920" y="2133720"/>
            <a:ext cx="449568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Comic Sans MS"/>
              </a:rPr>
              <a:t>valley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403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 valley is a low area between higher lands such as mountain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" name="Group 9"/>
          <p:cNvGrpSpPr/>
          <p:nvPr/>
        </p:nvGrpSpPr>
        <p:grpSpPr>
          <a:xfrm>
            <a:off x="1143000" y="2835360"/>
            <a:ext cx="6858000" cy="1189080"/>
            <a:chOff x="1143000" y="2835360"/>
            <a:chExt cx="6858000" cy="1189080"/>
          </a:xfrm>
        </p:grpSpPr>
        <p:sp>
          <p:nvSpPr>
            <p:cNvPr id="106" name="Rectangle 6"/>
            <p:cNvSpPr/>
            <p:nvPr/>
          </p:nvSpPr>
          <p:spPr>
            <a:xfrm>
              <a:off x="1143000" y="283536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1143000" y="2835360"/>
              <a:ext cx="68580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cc66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8" name="Group 17"/>
          <p:cNvGrpSpPr/>
          <p:nvPr/>
        </p:nvGrpSpPr>
        <p:grpSpPr>
          <a:xfrm>
            <a:off x="1154160" y="1981080"/>
            <a:ext cx="6835680" cy="2895480"/>
            <a:chOff x="1154160" y="1981080"/>
            <a:chExt cx="6835680" cy="2895480"/>
          </a:xfrm>
        </p:grpSpPr>
        <p:sp>
          <p:nvSpPr>
            <p:cNvPr id="109" name="Rectangle 12"/>
            <p:cNvSpPr/>
            <p:nvPr/>
          </p:nvSpPr>
          <p:spPr>
            <a:xfrm>
              <a:off x="1154160" y="1981080"/>
              <a:ext cx="6835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0" name="Group 16"/>
            <p:cNvGrpSpPr/>
            <p:nvPr/>
          </p:nvGrpSpPr>
          <p:grpSpPr>
            <a:xfrm>
              <a:off x="1154160" y="1981080"/>
              <a:ext cx="3257640" cy="2895480"/>
              <a:chOff x="1154160" y="1981080"/>
              <a:chExt cx="3257640" cy="2895480"/>
            </a:xfrm>
          </p:grpSpPr>
          <p:sp>
            <p:nvSpPr>
              <p:cNvPr id="111" name="Rectangle 13"/>
              <p:cNvSpPr/>
              <p:nvPr/>
            </p:nvSpPr>
            <p:spPr>
              <a:xfrm>
                <a:off x="1154160" y="1981080"/>
                <a:ext cx="32576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1154160" y="1981080"/>
                <a:ext cx="3257640" cy="28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16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113" name="Picture 18" descr="MPj01764850000[1]"/>
          <p:cNvPicPr/>
          <p:nvPr/>
        </p:nvPicPr>
        <p:blipFill>
          <a:blip r:embed="rId2"/>
          <a:stretch/>
        </p:blipFill>
        <p:spPr>
          <a:xfrm>
            <a:off x="304920" y="2514600"/>
            <a:ext cx="45720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Comic Sans MS"/>
              </a:rPr>
              <a:t>plai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plain is a flat area on Earth’s surface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9" descr="MPj01817770000[1]"/>
          <p:cNvPicPr/>
          <p:nvPr/>
        </p:nvPicPr>
        <p:blipFill>
          <a:blip r:embed="rId1"/>
          <a:stretch/>
        </p:blipFill>
        <p:spPr>
          <a:xfrm>
            <a:off x="647640" y="264636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Comic Sans MS"/>
              </a:rPr>
              <a:t>plateau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95680" y="2133720"/>
            <a:ext cx="4191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 plateau is a flat area higher than the land around it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09284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076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island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95680" y="2057400"/>
            <a:ext cx="4114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n island is land that has water all around it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1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0388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omic Sans MS"/>
              </a:rPr>
              <a:t>lak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2666880"/>
            <a:ext cx="4033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 lake is water that has land all around it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4" descr="MPj04340860000[1]"/>
          <p:cNvPicPr/>
          <p:nvPr/>
        </p:nvPicPr>
        <p:blipFill>
          <a:blip r:embed="rId1"/>
          <a:stretch/>
        </p:blipFill>
        <p:spPr>
          <a:xfrm>
            <a:off x="304920" y="1752480"/>
            <a:ext cx="40384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Comic Sans MS"/>
              </a:rPr>
              <a:t>ocea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43400" y="213372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Oceans are the largest bodies of water on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0" descr="MPj04331880000[1]"/>
          <p:cNvPicPr/>
          <p:nvPr/>
        </p:nvPicPr>
        <p:blipFill>
          <a:blip r:embed="rId1"/>
          <a:stretch/>
        </p:blipFill>
        <p:spPr>
          <a:xfrm>
            <a:off x="228600" y="2438280"/>
            <a:ext cx="4343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14:58:32Z</dcterms:created>
  <dc:creator>Jefferson County Schools</dc:creator>
  <dc:description/>
  <dc:language>en-US</dc:language>
  <cp:lastModifiedBy>Tarean Anthony</cp:lastModifiedBy>
  <dcterms:modified xsi:type="dcterms:W3CDTF">2011-10-24T16:33:55Z</dcterms:modified>
  <cp:revision>36</cp:revision>
  <dc:subject/>
  <dc:title>PowerPoint Presentation</dc:title>
</cp:coreProperties>
</file>